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26D1-7812-4FA4-92D9-FB5D94AAC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F4A0-1E15-4056-93D9-C8A7E6E298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4657-95D3-49DC-BF2B-6D9D693AB3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5FFE-F679-4036-8714-17BABFB188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27C8-017A-412A-AC9B-24B99DD940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FB6B-049A-4543-A0B9-90EB25FF17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866-E2C3-4D2B-B178-DDA8EFB6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515-E290-42DD-9971-8E81667C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BC71E4-3512-4A9E-94C3-3C7483F8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ABA7F-4F4B-44F4-BC92-AE46082E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AC73E2-BDAD-453A-9473-15E877D4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30E888-D7C5-425E-899A-AF29E19C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7B2DA4-C7B1-454F-8458-EA323A98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5A497-08B4-4121-B456-07104F62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F18B6-1CF5-4B29-8F8A-ABA19F58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B8DFA-F671-40B7-9E5A-D43F15A2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7845E-C93C-4BE1-AC35-414B88B4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E4CC4-6810-4462-83A2-F5261305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82A-F13F-4593-8D88-C1F9750D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1ABD07-CE4E-4BB4-89F0-41A464FA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A828F-2EBD-43F5-B5D7-CD0912DD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C15E9-2CBD-4DA8-8A55-49B0B57A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D2E195-115C-4660-A1D2-0D7F9F24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AF0F2C-E8D1-480B-AB27-3EAE74D7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73FE6-012A-4DD3-8FBD-A8A3DD3B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05741-9EBD-4D06-A9C9-4F76A81B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E49E89-0039-4F0C-86E2-726E7F97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3CB7D2-A267-445D-B550-C5F74953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4C9C6F-006C-4703-B98A-A0CC2960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2B1-3678-448B-86E2-4D246FC4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172A2-B441-47A2-A0E8-F6C0C464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6A4590-7ECD-4998-8F50-300D74A7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816963-817E-4C86-BE86-9E28DEAD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0F44D4-7EBD-4A6A-9018-8271EEDA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82B167-D352-4A50-9AED-E91D5752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087C96-5224-4147-9BBB-B6F3E7AF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E78B24-0466-406F-8CB7-D08E8AF1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9F3280-A0EA-4D9A-9C02-450B1470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2D722E-8720-488A-ACFA-0C09D755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B0F9D4-65F5-490B-851C-C99D86E0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3A6E-D067-4362-80F8-BCBED802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0FC1E0-3B5A-4B96-989E-5E2B93B9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2135C7-1C0F-42F6-8935-A1D460BB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125D41-7D98-4F43-B004-C44C882F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BA74B8-722E-4EB6-AE44-6CC1D568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9872BD-1083-4D07-A50F-526BC852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F3215-C1E4-4743-8195-DE4E7103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631564-5A73-480B-B730-C7E1A963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1656F0-ECD8-498D-B0BC-30B686B3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72A6AE-0BE2-48C7-B5CC-5C47EAE6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96E0AA-3FC7-4434-9874-EAC066AA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37FA-A90C-43B1-8A83-EC395E4F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D104C-565F-4AD4-90D4-93B2382F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9447D-EF82-4A4F-97A8-6EFE8D53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38F45D-260A-4C61-AF92-C98C95E9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6E1856-CB88-4A99-9C5C-7E0A94C0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04F990-18F5-410B-9518-64503B48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B900B6-284D-458D-90EF-51F59013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A656BF-2CF8-4CE1-BC5A-FFF0454D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AEA848-3A0A-4AF5-B6FB-E3F9C425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975082-8CA2-4285-ACD8-86A69D6C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B845E76-5A0F-44D9-A148-FED67A58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C3EA-64C5-42FF-A91A-3AABE083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FD80AC-AC34-4F35-851A-90F11064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EB34E6-8F1E-41ED-AA15-8D363B25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FA1574-2330-4EF6-8E68-57AB3B98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18BADA-0D5F-4293-91B6-2341FD4C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5A43A6-CE97-4C51-B3D1-8330C7AD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0EA00D-6308-43BE-9C00-496492A7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2EE940-ED3B-4337-945B-2FA1E36F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FDEB5A-1796-4FA0-8B8C-F0563C3F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89ED12-AAFA-43FF-A37F-B251506E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17A6B7E-C036-4B94-B119-3F53E6AD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D5EC-296E-4DB5-9F0B-C8BCCC44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282A627-BD41-4E92-93A9-35AFFD64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96F8319-27DD-4237-B447-E7E1E6F2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6CDEB15-5C44-4A5A-B811-8B38B93E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8343196-106B-4389-975B-63EF783E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8B75E13-2FE1-4E58-BD8A-7A9C3727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239822C-C08C-46B0-BDA8-A7D92512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E77A7A-B5BA-4CBF-B4A8-2F6EB235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AF92D23-906D-4D8A-AEBC-63D354C1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E3EA133-0143-40F3-A3EC-65301794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51C35E5-966F-4C2B-A482-EC8E0704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0B46-1C72-43EB-817B-08D2DBDD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88EE38B-2D93-4C52-A2DE-EB6C9720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F7E366B-C8B5-465F-AB88-7B727E23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AFDCA63-1A31-4FA0-A27C-A109FBBC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7897C1E-85B3-4A93-AB5A-409A5975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179747D-BD96-4E58-AF1A-355D268B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D49EDAE-0E66-4985-B5F4-B87CFA9C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76F9362-AC48-4543-8D63-E9E69E03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0069C7E-8F90-436B-9C80-36FBEC85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9D318F8-5A6D-402E-B17E-ED3DFFD0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074A08-B6AE-413D-984F-A6FB81DB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4002-FE95-4659-9CB7-CB69E14B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C3994FE-90ED-402B-961C-0AC7552A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8F24-994C-407C-AB3C-12C7973D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28CFCC-D046-4DFC-8D36-5CE1ED9C535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000193-210E-438A-A06C-B6BFB223E54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9970D0-50AB-41EF-8D66-B39CF596253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C10C17-E0E6-41D3-B9AE-A0450617324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A741AC-ACF7-46D4-B2BA-79FE5F9337C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F05357-2018-4318-B2A1-9820C0C538C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A9AAD3-5FE8-4AC1-A91F-C289EC7AB1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4FB-A1D1-4672-8F68-AFBAA711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9297-2729-4D2C-999F-08FC509F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463F1C-4E92-4127-BFEB-7E2F95C397E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1406FC-E4E1-425C-9436-ECB81C2DBC7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FA7AE6-F6BF-49AB-BDF0-CBA786EE52F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16305A-FE6D-4885-A667-ECAA8498C07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99E81A-27B5-4928-B81E-57C224622F0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B72107F-A91B-45A2-81F3-793E7A15C87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022D8B8-9412-4252-9BCE-ADBC7922229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9484C3E-9D97-4F37-93DA-072F2CEF7BB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B9DBB72-B63B-4792-B71A-C8E1A10F122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D323306-D913-4B73-8A88-D460A5F731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8042-760B-4380-9428-7E25B3A5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B3430A-47B2-45D9-8E2E-726ECFDC5DD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1168E11-755C-49BC-8047-863ADFEFE6E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9DCE889-5AC4-49E3-953C-FA56A082D6F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5AE5031-D1FE-4CDC-A4BD-544DFBC7315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20C99DD-0888-4D07-B119-77B109331EF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58276F2-B095-4C40-A43B-9D4078696C2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B9E21F0-16EA-4608-85B2-A78ADAE9ED5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A79966C-E862-49AE-A3C4-67EBCA7EFB8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4DFF1DF-5154-44B0-86C8-C738DFDB2DC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A87DA31-0532-4C4C-AC52-648A815354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6F25-B196-45FF-B145-83912192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DE56885-5A04-400B-AB44-9CB8A74CDDF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75C971-0C15-4D61-A4D4-148EB128CDC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651D615-24B6-4EC1-865E-27C7C289B6D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F19960A-A6A8-45D3-86F2-61B27D37C56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7D72051-C342-4843-9A51-75C850A60B7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8B381AD-F041-496F-813C-556B8E62174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09B4470-36FC-4563-9D9A-F590AC023E4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4467F67-DA14-48BD-9007-EBFA784D489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DD5FF7-40C9-4BFC-AB53-10DBD5AC968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76B197-730D-4153-B517-D6D81A9B66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0334-5F50-4D95-A677-66EF7B1A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A55874-3767-40B4-B9E0-3042E0544E6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2BCFB5-1C17-45E9-91FE-02A4ECAF641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6D85F1-1F40-4123-B7B3-DB60FD9E8B2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6D7C46-0404-4239-ACEB-BA9197B7DFE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55D65A-120A-4F6C-936F-009E2C778DA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61E099-C21A-421D-870C-F8B44AA44B4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9ECF87-7768-4FA9-BE13-15C4DD90CD4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598D32-7DE0-41B7-848B-324C2A47E13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089E1C-644F-4E2A-B5E7-8652D8DE88D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BC8011-C767-4B1C-AFD9-BEE19625C9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7934-9DC9-41CF-96E4-1F05E6D7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06E0F3-3AE8-4F26-B14E-AE592A34DA5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3456858-C896-4B7D-AEEA-D21D270B008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5891933-9E2C-41A6-82E4-AF314D4ACC1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AAE2EA8-F44C-42B8-803D-F6E115B6682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D720C91-6015-45CE-B24A-66879180BE9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7610BDD-BCF3-44CB-B02B-619FD7D7D27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7B45CB7-3F3D-480A-8C53-29D00EC5C2E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5FB25AB-7C37-45E5-9945-DA4EDA0C857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9C3F3F2-E96C-4BD8-BDD0-60470F6CCD1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8F184E8-B1C9-4DD3-B3EC-6852680B735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808C1D-FF09-4FF6-8514-CB1CB28B6AB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3A78033-7469-4ECE-87A0-498F5767FE5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E877E1E-5380-4D77-A056-52BB78BDFD7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AF6D265-8E93-4375-B145-42C5FCE7F9D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41AAE23-B740-48F2-A30D-07F55D52E4E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BA27CF4-DBFC-46F7-93FC-B18EEEE1332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B553152-A791-4970-8E75-A8433DC61B5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6B702FD-36C2-4783-B586-FA7A0392760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68B2748-D876-4ACC-A2B0-00D6108D230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BC2BE5-B4FC-4DF6-A53A-E58C5178E96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35C8C72-2784-4126-8992-45EA32802D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4429EE-B618-4773-A8F4-25B73600E55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BE8DF31-51E4-4187-BBE5-4522730A02B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921A66E-E874-40F0-ACB3-DE6E9E7C6F5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DE00E60-11B6-40C4-B146-B7CE963F145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DC0A4C1-86B1-444D-84A3-DA0001CE57F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BAD1118-8A3D-43AA-BB81-0A674BB0CCC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E61051-A8F7-4F77-A1D3-63B5883163E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AE81DB-0F4D-422C-89EA-3DAB62C82E4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F08E2C-9DC0-4CEE-B1FC-F90684B1A04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34CE6D-3EC1-410B-9FDC-EA9C6E97BCF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9E6866-5DB2-420D-9B5D-CE38A22310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475399-02A0-453E-B81F-BD5C39C6361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38217C-C319-4F17-987D-31F3C8EE09E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B05313-9135-4789-A947-74FD0AF572F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A75394-D637-4EFD-87E5-2AF90244250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5CED9E-6A12-4CF3-87C8-D5CDEFB5787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7AA172-02E5-4647-AB5F-6DB07B70409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36C197-4EAE-4401-A8A4-904D2235900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A7BC29-8C0B-4FE2-A759-5A144F263AF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2C55EEF-3B88-4CB9-A6E1-A21CA483990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ED5D293-E56F-49D5-A955-4FDE18DB144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D34CBAD-32F2-444A-9399-ED81566EFE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E49370-DDEE-4233-B0AC-B8AB958401F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50EEFBD-8111-4002-AB29-36CFB0BDD0C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D35BFB0-2376-48E3-A6C5-73D9A5AA966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5CA2D4F-7B90-4822-979D-F051F4FBEF3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A6644F3-A767-4395-880A-79FB47649BC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CCC6419-FF05-42E0-A603-D1EB66D286E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7625487-D7C4-4D4F-980D-F7601090A61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C0146B8-F60A-49BF-AC74-6AD0E889DD4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EDB0538-DDB5-43D4-848F-10C37992FA8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FB888DD-8F77-4CB2-946F-B1F6E3BF3F1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288AA61-DEDE-488E-8495-A794F8889E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739527-9AE9-4AA7-9F14-8176E54A64D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509A57D-EB47-466F-9C66-5CB9C590278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D7A96B3-9409-4637-B264-8DD351899D3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02F8B6E-825D-42C4-903C-52EC53E6090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10AF0A2-CA77-437E-ABD8-7933D536138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23002D9-47B2-4FDC-B72C-2B7CB9B7B70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CE0F7B0-8F0C-4280-BE47-8EDB1F00AEB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6E50570-DD8A-499F-8C8D-7BC3CE66B1B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46125AF-AC2C-4B75-99AF-3B23E949C00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0AC7B1F-36E0-4FD7-A7B1-D9400F637B4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A960620-5D0C-48F1-B57C-34098440DB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A757-9D97-40B2-91D8-B44BB2D9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E49EFB-9644-4F99-85CA-07F6E331C78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E9B4339-BB52-4847-911F-FB265943BCA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F03B4F-9F65-4823-AA56-77BDB79DC57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F95C1E-BC4C-42B5-8B7C-FD86087EFF2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1CA035-7BBD-4753-B1FD-60D97AAFE79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34706E-D99C-46F4-8015-A8DD33C8EB6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134708-1546-4AA4-844E-BD27E7D849D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FF0A24-343A-40E3-A0D6-B7BCC795A1A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4347C4-AF42-4E30-AA2F-0BD29292D2D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A03B1D-F314-457E-AA9C-6D988E665DC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740EE7-AF79-4DCC-92E3-C6B249329D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E590B9-04C6-4669-9D0F-03E7C30CED9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FA22A5-4FBA-476B-94E3-A25F51A6DE1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A58C1E-C08F-4074-BBEA-4EBB8000AAA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E765C6-5443-42AD-83C1-5958AF8673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19860C-7E7C-4D75-A8B9-93287D8F45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2E1CA2-8D98-4F4B-8B4D-CD3F9F2F93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0250DC-9F84-415E-9B06-48D0718AB2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D4E87B-2AC6-4A6E-ABC6-2C91755C44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2F5073-F109-4DC2-B379-1BBAF4ACA3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2C8F73-8956-4ED1-B627-BDB671EF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84BC27-394E-4EE1-8479-ECD11E10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9BE74A-FBFB-41DD-A04D-1FFF1373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3906-4FCE-4DCD-BB58-73BE2566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018755-BC2F-4A28-AEF1-D089A248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A0677E-6D25-4B44-85A3-644533A6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09B1E7-110C-4441-9DA1-737D5188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572EC6-C7BC-491F-BBE6-BCB6C2A1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7CFD2D-2CE6-4449-BA12-B2A05EA2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6BC435-2AE6-4EE9-BE44-4B05B01F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0E0047-EE20-4783-A581-DFAD0CFE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64EB04-FD35-4AC0-8048-DF903A8E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1EEBDE-3C0F-4DDB-A1D2-52275EE9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632392-3C64-4C94-95E4-E77A222B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A1B-F0B4-4981-9464-4651134A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0A3CB8-1B06-4530-AAC9-4190A5A3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EEE294-8450-481E-938A-5A661A2E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B0D7DF-1DEA-4E2F-8DDD-86EA9985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1DA3A8-77B8-4B1E-ABFE-ED7B6500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04AA51-72EA-48F4-A16E-3638F7F5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CC7762-8A18-47C6-A7FB-904E2393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B7245D-41B1-4061-844B-C9E0F70A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CCF761-D345-4A4A-A0D0-65D368DF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F5A7FB-B484-4A92-BDDD-5CE2E98E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5CF92D-4460-4F06-904F-F7E02EE1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95B5-6F3D-4CC4-A9C1-6735CE1E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C96188-FB99-42CB-8F8C-B43B8B07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C58D21-8FE6-4C82-ACCE-107A181B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8ED49D-06D4-471D-8ED9-96E5B713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0EC8D0-6F90-4235-B24B-1380394B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679620-179D-471E-A7E0-8130C0F5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1863D9-7289-42BD-8645-700B87FE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1F26BF-4446-4793-B64C-5377CB78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26BF03-6224-4AFA-94B7-1391CDB1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8EE01B-6941-4A73-875B-43CD88C9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63305F-203D-4658-9D6D-3EC264F2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BD2-E286-4E79-99E4-087CA97E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69327D-0D7C-47FF-91F9-1542557B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07CE90-66D3-4821-9DA3-159DF9C9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9BBCCC-C92E-4B6E-BB14-DFB90C80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1C0B50-5442-4273-B395-6D07A0F7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C55742-B958-45AA-9C32-24AB28F4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B9254F-3EEF-40C8-81F1-74D3F0C4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543AB1-9F03-4382-8012-84C6F8C8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70EA85-4A3A-459A-A26A-FE35EBE2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41A432-20E4-47F4-A5D5-1F88BD3A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5DDC66-1406-49E4-94B5-47B33BD8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468E-37FD-42EE-9179-B7DFFF93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21CFF2-C92B-417B-878D-3A59AF18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A2AC58-525A-4275-83E6-4FA071E2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8FA416-2C23-4E27-94A3-BC5B24F3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8FC39C-87F6-4C80-AE33-4EBE2E7A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C72EDC-1205-4F51-8AD9-F14F0449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814411-5B68-45D8-8E2F-30552D18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54EB19-C0E7-497F-9BC9-CC927899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71635E-9C76-4DB2-BDBE-591DD1B0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953C65-D5D9-4CA1-9223-896C5863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A4C6C1-3DDE-4A6A-BC86-961F6BF1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4CE-9C31-4D4C-8E67-B26D1247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2F3020-2186-40E3-BD8E-B21923BF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8B04DD-7199-4498-AF32-01FAC3C8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CDA4E9-6555-4A1F-9074-FB721DE6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046360-C052-4E8C-B1D5-E26F680D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316AC1-35B3-4E42-A0DA-637947AF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FFEC1F-1385-46FE-85B4-141983E6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94486E-79F1-4BA0-B77D-675BF057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6B4801-29E8-4E69-BE70-08691295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D61C9-53F9-4B6B-8F0A-16ECD766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75B1C-9DF4-4FA1-A99B-B5CCCA66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B10B-7E91-4832-B595-1E05C74F1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ED43-E497-4838-8A24-7583858AD1C3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7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6D61-CD8B-4020-8073-83E2015F1A6B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9484-EAA1-431B-91B8-2AA835DC12FF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0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A6C7-1C67-4031-BB09-A38EF0358FFA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86F7-EFF5-41DC-99CE-1C254B7124CD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3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FCC5-3EE1-4B1A-9B3D-42735503EACE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F126-7C3D-4EE4-8E6B-37FB6C8B8822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6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DB10-E0B9-44F5-86EC-31FD66DEA066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1598-589E-4B71-A0D9-1D9E049D9DEE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9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4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C708-65B1-4229-8074-ACA27A205FFB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7B29-FBC4-45AA-B848-57504D7718BE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26D1-809C-46B7-8471-2042ADA4B8D2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623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6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627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Line 81"/>
            <p:cNvSpPr/>
            <p:nvPr/>
          </p:nvSpPr>
          <p:spPr>
            <a:xfrm flipV="1">
              <a:off x="838368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Oval 82"/>
            <p:cNvSpPr/>
            <p:nvPr/>
          </p:nvSpPr>
          <p:spPr>
            <a:xfrm rot="10800000">
              <a:off x="8307360" y="5029920"/>
              <a:ext cx="152640" cy="15192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0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4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2007-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sldNum" idx="45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7B51-445E-402F-8622-EFABE195D4CB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sldNum" idx="46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7949-CBF7-4423-AEA9-521527839404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sldNum" idx="47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A4F4-2849-4BE1-95A6-069B5938DAC1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975AC-D258-4C92-9416-FC1322A607C0}" type="datetime">
              <a:rPr b="0" lang="en-US" sz="1200" spc="-1" strike="noStrike">
                <a:solidFill>
                  <a:srgbClr val="ffffff"/>
                </a:solidFill>
                <a:latin typeface="News Gothic MT"/>
                <a:ea typeface="ＭＳ Ｐゴシック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8E885F-78A7-442B-8657-2E3B11F6F979}" type="slidenum">
              <a:rPr b="0" lang="en-US" sz="3600" spc="-1" strike="noStrike">
                <a:solidFill>
                  <a:srgbClr val="ffffff"/>
                </a:solidFill>
                <a:latin typeface="News Gothic MT"/>
                <a:ea typeface="ＭＳ Ｐゴシック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Num" idx="48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0BBF-83F2-4BDD-8C41-1466360DC413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sldNum" idx="49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2C84-8A9A-4348-B340-9B7C6D788119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sldNum" idx="50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19A4-E99A-4AF4-97F2-BEEE033D9074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sldNum" idx="5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5E2B-53C4-48A2-A84A-E576D2C07C13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sldNum" idx="52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524A-686A-4762-99F3-5378772569F7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sldNum" idx="53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B7C8-BB2E-4813-82F5-591587F1E20F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sldNum" idx="54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E14E-1F60-428D-AB52-7AB4C9AC2AF1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7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2A9B-6FE3-4DF3-AF98-955AF62C77B7}" type="slidenum">
              <a:rPr b="1" lang="en-US" sz="12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2720-45B6-4798-AC25-6463AEEFFF2B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9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50C8-9386-4AD4-AB33-F2CF381346A4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FD9C-869B-4F14-9069-D77ED1CD9AD9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47A0-F2A5-4FFC-A2C1-F1C3AAE642B3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367B-A228-4C24-A854-88850A06F374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924B-5377-4A89-9A46-ECC129B8EBB9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3869-FEDC-4289-AA1E-0E5B4F23995F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8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521B-B699-458B-9697-31515E41A9FF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5798-C50C-47C9-8BBF-14650303F8B6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1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471E-33DB-4E8F-B1DF-65C4BABE1FAE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587E-4098-4ACE-ADDF-79CAB3EB342A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4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0347-D6BA-4E85-AECC-18ED7B93645C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P Test Cell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ncentration of wat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28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rection of osmosis is determined by comparing total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solut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oncentra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ypertonic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- more solute, less wat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ypotonic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- less solute, more wat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sotonic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- equal solute, equal wat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178" name="Group 4"/>
          <p:cNvGrpSpPr/>
          <p:nvPr/>
        </p:nvGrpSpPr>
        <p:grpSpPr>
          <a:xfrm>
            <a:off x="2008080" y="4356000"/>
            <a:ext cx="5181480" cy="1905120"/>
            <a:chOff x="2008080" y="4356000"/>
            <a:chExt cx="5181480" cy="1905120"/>
          </a:xfrm>
        </p:grpSpPr>
        <p:sp>
          <p:nvSpPr>
            <p:cNvPr id="1179" name="Rectangle 5"/>
            <p:cNvSpPr/>
            <p:nvPr/>
          </p:nvSpPr>
          <p:spPr>
            <a:xfrm>
              <a:off x="2008080" y="4432320"/>
              <a:ext cx="5181480" cy="1752480"/>
            </a:xfrm>
            <a:prstGeom prst="rect">
              <a:avLst/>
            </a:prstGeom>
            <a:solidFill>
              <a:srgbClr val="6f89f7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Line 6"/>
            <p:cNvSpPr/>
            <p:nvPr/>
          </p:nvSpPr>
          <p:spPr>
            <a:xfrm>
              <a:off x="4599000" y="4356000"/>
              <a:ext cx="0" cy="1905120"/>
            </a:xfrm>
            <a:prstGeom prst="line">
              <a:avLst/>
            </a:prstGeom>
            <a:ln w="5724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Text Box 7"/>
            <p:cNvSpPr/>
            <p:nvPr/>
          </p:nvSpPr>
          <p:spPr>
            <a:xfrm>
              <a:off x="2389320" y="572652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00"/>
                  </a:solidFill>
                  <a:latin typeface="Arial"/>
                  <a:ea typeface="ＭＳ Ｐゴシック"/>
                </a:rPr>
                <a:t>hypotoni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Text Box 8"/>
            <p:cNvSpPr/>
            <p:nvPr/>
          </p:nvSpPr>
          <p:spPr>
            <a:xfrm>
              <a:off x="5083200" y="5726520"/>
              <a:ext cx="17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00"/>
                  </a:solidFill>
                  <a:latin typeface="Arial"/>
                  <a:ea typeface="ＭＳ Ｐゴシック"/>
                </a:rPr>
                <a:t>hypertoni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Oval 9"/>
            <p:cNvSpPr/>
            <p:nvPr/>
          </p:nvSpPr>
          <p:spPr>
            <a:xfrm>
              <a:off x="2236680" y="46609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Oval 10"/>
            <p:cNvSpPr/>
            <p:nvPr/>
          </p:nvSpPr>
          <p:spPr>
            <a:xfrm>
              <a:off x="3074760" y="4736880"/>
              <a:ext cx="15264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Oval 11"/>
            <p:cNvSpPr/>
            <p:nvPr/>
          </p:nvSpPr>
          <p:spPr>
            <a:xfrm>
              <a:off x="2388960" y="5270400"/>
              <a:ext cx="15264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Oval 12"/>
            <p:cNvSpPr/>
            <p:nvPr/>
          </p:nvSpPr>
          <p:spPr>
            <a:xfrm>
              <a:off x="3227400" y="527040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Oval 13"/>
            <p:cNvSpPr/>
            <p:nvPr/>
          </p:nvSpPr>
          <p:spPr>
            <a:xfrm>
              <a:off x="3913200" y="542268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Oval 14"/>
            <p:cNvSpPr/>
            <p:nvPr/>
          </p:nvSpPr>
          <p:spPr>
            <a:xfrm>
              <a:off x="4903560" y="4660920"/>
              <a:ext cx="15264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9" name="Oval 15"/>
            <p:cNvSpPr/>
            <p:nvPr/>
          </p:nvSpPr>
          <p:spPr>
            <a:xfrm>
              <a:off x="5513400" y="46609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0" name="Oval 16"/>
            <p:cNvSpPr/>
            <p:nvPr/>
          </p:nvSpPr>
          <p:spPr>
            <a:xfrm>
              <a:off x="5132160" y="4889520"/>
              <a:ext cx="15264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Oval 17"/>
            <p:cNvSpPr/>
            <p:nvPr/>
          </p:nvSpPr>
          <p:spPr>
            <a:xfrm>
              <a:off x="5742000" y="519408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Oval 18"/>
            <p:cNvSpPr/>
            <p:nvPr/>
          </p:nvSpPr>
          <p:spPr>
            <a:xfrm>
              <a:off x="5894280" y="4889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Oval 19"/>
            <p:cNvSpPr/>
            <p:nvPr/>
          </p:nvSpPr>
          <p:spPr>
            <a:xfrm>
              <a:off x="5437080" y="5118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Oval 20"/>
            <p:cNvSpPr/>
            <p:nvPr/>
          </p:nvSpPr>
          <p:spPr>
            <a:xfrm>
              <a:off x="5056200" y="53467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Oval 21"/>
            <p:cNvSpPr/>
            <p:nvPr/>
          </p:nvSpPr>
          <p:spPr>
            <a:xfrm>
              <a:off x="5513400" y="542268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Oval 22"/>
            <p:cNvSpPr/>
            <p:nvPr/>
          </p:nvSpPr>
          <p:spPr>
            <a:xfrm>
              <a:off x="6122880" y="542268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Oval 23"/>
            <p:cNvSpPr/>
            <p:nvPr/>
          </p:nvSpPr>
          <p:spPr>
            <a:xfrm>
              <a:off x="6275160" y="5118120"/>
              <a:ext cx="15264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Oval 24"/>
            <p:cNvSpPr/>
            <p:nvPr/>
          </p:nvSpPr>
          <p:spPr>
            <a:xfrm>
              <a:off x="6199200" y="458460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9" name="Oval 25"/>
            <p:cNvSpPr/>
            <p:nvPr/>
          </p:nvSpPr>
          <p:spPr>
            <a:xfrm>
              <a:off x="6580080" y="473688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0" name="Oval 26"/>
            <p:cNvSpPr/>
            <p:nvPr/>
          </p:nvSpPr>
          <p:spPr>
            <a:xfrm>
              <a:off x="6732360" y="5194080"/>
              <a:ext cx="15264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1" name="Oval 27"/>
            <p:cNvSpPr/>
            <p:nvPr/>
          </p:nvSpPr>
          <p:spPr>
            <a:xfrm>
              <a:off x="6732360" y="5499000"/>
              <a:ext cx="15264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2" name="Oval 28"/>
            <p:cNvSpPr/>
            <p:nvPr/>
          </p:nvSpPr>
          <p:spPr>
            <a:xfrm>
              <a:off x="6885000" y="46609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Oval 29"/>
            <p:cNvSpPr/>
            <p:nvPr/>
          </p:nvSpPr>
          <p:spPr>
            <a:xfrm>
              <a:off x="3989160" y="4660920"/>
              <a:ext cx="15264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4" name="AutoShape 30"/>
          <p:cNvSpPr/>
          <p:nvPr/>
        </p:nvSpPr>
        <p:spPr>
          <a:xfrm>
            <a:off x="3913200" y="5041800"/>
            <a:ext cx="1447920" cy="533520"/>
          </a:xfrm>
          <a:prstGeom prst="rightArrow">
            <a:avLst>
              <a:gd name="adj1" fmla="val 50000"/>
              <a:gd name="adj2" fmla="val 67848"/>
            </a:avLst>
          </a:prstGeom>
          <a:solidFill>
            <a:srgbClr val="0f11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 Box 32"/>
          <p:cNvSpPr/>
          <p:nvPr/>
        </p:nvSpPr>
        <p:spPr>
          <a:xfrm>
            <a:off x="2860920" y="618372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  <a:ea typeface="ＭＳ Ｐゴシック"/>
              </a:rPr>
              <a:t>net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 movement of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asic Definitio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549360" y="1599840"/>
            <a:ext cx="4022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0" lang="en-US" sz="2000" spc="-1" strike="noStrike" u="sng">
                <a:solidFill>
                  <a:srgbClr val="595959"/>
                </a:solidFill>
                <a:uFillTx/>
                <a:latin typeface="News Gothic MT"/>
              </a:rPr>
              <a:t>cell</a:t>
            </a: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 is the basic unit of life.  All living things are made of cells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nside cells are </a:t>
            </a:r>
            <a:r>
              <a:rPr b="0" lang="en-US" sz="2000" spc="-1" strike="noStrike" u="sng">
                <a:solidFill>
                  <a:srgbClr val="595959"/>
                </a:solidFill>
                <a:uFillTx/>
                <a:latin typeface="News Gothic MT"/>
              </a:rPr>
              <a:t>organelles</a:t>
            </a: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, which are small, membrane bound structures that have specific jobs.</a:t>
            </a: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Cells are small because nutrients and water must be able to get to all parts of the cell (higher surface area to volume ratio with smaller cells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31" name="Picture 3" descr=""/>
          <p:cNvPicPr/>
          <p:nvPr/>
        </p:nvPicPr>
        <p:blipFill>
          <a:blip r:embed="rId1"/>
          <a:stretch/>
        </p:blipFill>
        <p:spPr>
          <a:xfrm>
            <a:off x="4718160" y="1511280"/>
            <a:ext cx="2225520" cy="26892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4" descr=""/>
          <p:cNvPicPr/>
          <p:nvPr/>
        </p:nvPicPr>
        <p:blipFill>
          <a:blip r:embed="rId2"/>
          <a:stretch/>
        </p:blipFill>
        <p:spPr>
          <a:xfrm>
            <a:off x="5065560" y="4267080"/>
            <a:ext cx="400212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ukaryotic vs. Prokaryotic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549360" y="1599840"/>
            <a:ext cx="5775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0" lang="en-US" sz="2400" spc="-1" strike="noStrike" u="sng">
                <a:solidFill>
                  <a:srgbClr val="595959"/>
                </a:solidFill>
                <a:uFillTx/>
                <a:latin typeface="News Gothic MT"/>
              </a:rPr>
              <a:t>prokaryotic cell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does NOT have a nucleus or membrane bound organelles.  It is small and simple, having only cytoplasm (fluid) and ribosomes (organelles that make protein). Bacteria are prokaryotic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0" lang="en-US" sz="2400" spc="-1" strike="noStrike" u="sng">
                <a:solidFill>
                  <a:srgbClr val="595959"/>
                </a:solidFill>
                <a:uFillTx/>
                <a:latin typeface="News Gothic MT"/>
              </a:rPr>
              <a:t>eukaryotic cell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DOES have a nucleus and organelles.  They are larger and more complex, and include plants and animal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35" name="Picture 3" descr=""/>
          <p:cNvPicPr/>
          <p:nvPr/>
        </p:nvPicPr>
        <p:blipFill>
          <a:blip r:embed="rId1"/>
          <a:stretch/>
        </p:blipFill>
        <p:spPr>
          <a:xfrm>
            <a:off x="6324480" y="1444680"/>
            <a:ext cx="2151360" cy="17906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4" descr=""/>
          <p:cNvPicPr/>
          <p:nvPr/>
        </p:nvPicPr>
        <p:blipFill>
          <a:blip r:embed="rId2"/>
          <a:stretch/>
        </p:blipFill>
        <p:spPr>
          <a:xfrm>
            <a:off x="6278400" y="3657600"/>
            <a:ext cx="24926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4" descr="http://media.showme.com/files/69170/pictures/thumbs/213698/first_thumb1336095212.jpg"/>
          <p:cNvPicPr/>
          <p:nvPr/>
        </p:nvPicPr>
        <p:blipFill>
          <a:blip r:embed="rId1"/>
          <a:stretch/>
        </p:blipFill>
        <p:spPr>
          <a:xfrm>
            <a:off x="112680" y="1295280"/>
            <a:ext cx="8817120" cy="661032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2c7c9f"/>
                </a:solidFill>
                <a:latin typeface="News Gothic MT"/>
              </a:rPr>
              <a:t>Animal vs Plant Cel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view of the Endomembrane System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40" name="Content Placeholder 3" descr="Untitled.png"/>
          <p:cNvPicPr/>
          <p:nvPr/>
        </p:nvPicPr>
        <p:blipFill>
          <a:blip r:embed="rId1"/>
          <a:stretch/>
        </p:blipFill>
        <p:spPr>
          <a:xfrm>
            <a:off x="1066680" y="1447920"/>
            <a:ext cx="7007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42" name="Picture 5" descr="06_02b"/>
          <p:cNvPicPr/>
          <p:nvPr/>
        </p:nvPicPr>
        <p:blipFill>
          <a:blip r:embed="rId1"/>
          <a:srcRect l="15000" t="22500" r="24000" b="29251"/>
          <a:stretch/>
        </p:blipFill>
        <p:spPr>
          <a:xfrm>
            <a:off x="4946760" y="620640"/>
            <a:ext cx="4195800" cy="4427640"/>
          </a:xfrm>
          <a:prstGeom prst="rect">
            <a:avLst/>
          </a:prstGeom>
          <a:ln w="0">
            <a:noFill/>
          </a:ln>
        </p:spPr>
      </p:pic>
      <p:sp>
        <p:nvSpPr>
          <p:cNvPr id="1143" name="Rectangle 6"/>
          <p:cNvSpPr/>
          <p:nvPr/>
        </p:nvSpPr>
        <p:spPr>
          <a:xfrm>
            <a:off x="6386760" y="2863800"/>
            <a:ext cx="14821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tty aci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7"/>
          <p:cNvSpPr/>
          <p:nvPr/>
        </p:nvSpPr>
        <p:spPr>
          <a:xfrm>
            <a:off x="6283440" y="703440"/>
            <a:ext cx="16221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ospha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5" name="Picture 9" descr=""/>
          <p:cNvPicPr/>
          <p:nvPr/>
        </p:nvPicPr>
        <p:blipFill>
          <a:blip r:embed="rId2"/>
          <a:srcRect l="29604" t="49203" r="1060" b="7200"/>
          <a:stretch/>
        </p:blipFill>
        <p:spPr>
          <a:xfrm>
            <a:off x="519120" y="4348080"/>
            <a:ext cx="4235400" cy="2344680"/>
          </a:xfrm>
          <a:prstGeom prst="rect">
            <a:avLst/>
          </a:prstGeom>
          <a:ln w="0">
            <a:noFill/>
          </a:ln>
        </p:spPr>
      </p:pic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76440" y="1371240"/>
            <a:ext cx="4967280" cy="28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Phosphat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head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ydrophilic and polar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Fatty acid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tail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ydrophobic and non pola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rranged as a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bilay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47" name="Picture 13" descr="penguinL"/>
          <p:cNvPicPr/>
          <p:nvPr/>
        </p:nvPicPr>
        <p:blipFill>
          <a:blip r:embed="rId3"/>
          <a:stretch/>
        </p:blipFill>
        <p:spPr>
          <a:xfrm>
            <a:off x="7772400" y="548964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148" name="AutoShape 14"/>
          <p:cNvSpPr/>
          <p:nvPr/>
        </p:nvSpPr>
        <p:spPr>
          <a:xfrm>
            <a:off x="4937040" y="5153040"/>
            <a:ext cx="2433600" cy="1365120"/>
          </a:xfrm>
          <a:prstGeom prst="wedgeEllipseCallout">
            <a:avLst>
              <a:gd name="adj1" fmla="val 75050"/>
              <a:gd name="adj2" fmla="val 46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Aaaah,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one of thos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structure–fun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AutoShape 15"/>
          <p:cNvSpPr/>
          <p:nvPr/>
        </p:nvSpPr>
        <p:spPr>
          <a:xfrm>
            <a:off x="5846040" y="3804480"/>
            <a:ext cx="2368080" cy="33768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pelled by water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AutoShape 16"/>
          <p:cNvSpPr/>
          <p:nvPr/>
        </p:nvSpPr>
        <p:spPr>
          <a:xfrm>
            <a:off x="5862240" y="1301040"/>
            <a:ext cx="2413800" cy="33768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ttracted to water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1" name="Picture 2" descr=""/>
          <p:cNvPicPr/>
          <p:nvPr/>
        </p:nvPicPr>
        <p:blipFill>
          <a:blip r:embed="rId1"/>
          <a:srcRect l="29604" t="49203" r="1060" b="7200"/>
          <a:stretch/>
        </p:blipFill>
        <p:spPr>
          <a:xfrm>
            <a:off x="152280" y="4114800"/>
            <a:ext cx="4235400" cy="234468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3" descr=""/>
          <p:cNvPicPr/>
          <p:nvPr/>
        </p:nvPicPr>
        <p:blipFill>
          <a:blip r:embed="rId2"/>
          <a:srcRect l="30131" t="49203" r="1060" b="7200"/>
          <a:stretch/>
        </p:blipFill>
        <p:spPr>
          <a:xfrm>
            <a:off x="2370240" y="4114800"/>
            <a:ext cx="4203720" cy="2344680"/>
          </a:xfrm>
          <a:prstGeom prst="rect">
            <a:avLst/>
          </a:prstGeom>
          <a:ln w="0">
            <a:noFill/>
          </a:ln>
        </p:spPr>
      </p:pic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ermeability to polar molecule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722160" y="1371600"/>
            <a:ext cx="79646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5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Membrane becomes semi-permeable via protein channel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pecific channels allow polar substances like water, ions, and sugars across cell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55" name="Rectangle 6"/>
          <p:cNvSpPr/>
          <p:nvPr/>
        </p:nvSpPr>
        <p:spPr>
          <a:xfrm>
            <a:off x="152280" y="3854160"/>
            <a:ext cx="6400800" cy="368280"/>
          </a:xfrm>
          <a:prstGeom prst="rect">
            <a:avLst/>
          </a:prstGeom>
          <a:solidFill>
            <a:srgbClr val="98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inside c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7"/>
          <p:cNvSpPr/>
          <p:nvPr/>
        </p:nvSpPr>
        <p:spPr>
          <a:xfrm>
            <a:off x="152280" y="6292800"/>
            <a:ext cx="6400800" cy="368280"/>
          </a:xfrm>
          <a:prstGeom prst="rect">
            <a:avLst/>
          </a:prstGeom>
          <a:solidFill>
            <a:srgbClr val="98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outside c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Rectangle 8"/>
          <p:cNvSpPr/>
          <p:nvPr/>
        </p:nvSpPr>
        <p:spPr>
          <a:xfrm>
            <a:off x="6524640" y="3657600"/>
            <a:ext cx="38088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AutoShape 9"/>
          <p:cNvSpPr/>
          <p:nvPr/>
        </p:nvSpPr>
        <p:spPr>
          <a:xfrm>
            <a:off x="5448240" y="3809880"/>
            <a:ext cx="533520" cy="533520"/>
          </a:xfrm>
          <a:prstGeom prst="octagon">
            <a:avLst>
              <a:gd name="adj" fmla="val 29287"/>
            </a:avLst>
          </a:prstGeom>
          <a:solidFill>
            <a:srgbClr val="c0ff1d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ug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AutoShape 10"/>
          <p:cNvSpPr/>
          <p:nvPr/>
        </p:nvSpPr>
        <p:spPr>
          <a:xfrm>
            <a:off x="4152960" y="3809880"/>
            <a:ext cx="533520" cy="533520"/>
          </a:xfrm>
          <a:custGeom>
            <a:avLst/>
            <a:gdLst>
              <a:gd name="textAreaLeft" fmla="*/ 62640 w 533520"/>
              <a:gd name="textAreaRight" fmla="*/ 470880 w 533520"/>
              <a:gd name="textAreaTop" fmla="*/ 62640 h 533520"/>
              <a:gd name="textAreaBottom" fmla="*/ 470880 h 533520"/>
            </a:gdLst>
            <a:ahLst/>
            <a:rect l="textAreaLeft" t="textAreaTop" r="textAreaRight" b="textAreaBottom"/>
            <a:pathLst>
              <a:path w="216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000" y="2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660066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Oval 11"/>
          <p:cNvSpPr/>
          <p:nvPr/>
        </p:nvSpPr>
        <p:spPr>
          <a:xfrm>
            <a:off x="2857680" y="3809880"/>
            <a:ext cx="533160" cy="533520"/>
          </a:xfrm>
          <a:prstGeom prst="ellipse">
            <a:avLst/>
          </a:prstGeom>
          <a:solidFill>
            <a:srgbClr val="0f116a"/>
          </a:solidFill>
          <a:ln w="9360">
            <a:solidFill>
              <a:srgbClr val="1a15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AutoShape 12"/>
          <p:cNvSpPr/>
          <p:nvPr/>
        </p:nvSpPr>
        <p:spPr>
          <a:xfrm>
            <a:off x="1638360" y="6172200"/>
            <a:ext cx="533520" cy="533520"/>
          </a:xfrm>
          <a:prstGeom prst="diamond">
            <a:avLst/>
          </a:prstGeom>
          <a:solidFill>
            <a:srgbClr val="b7c1eb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AutoShape 13"/>
          <p:cNvSpPr/>
          <p:nvPr/>
        </p:nvSpPr>
        <p:spPr>
          <a:xfrm>
            <a:off x="2743200" y="4419720"/>
            <a:ext cx="762120" cy="1752480"/>
          </a:xfrm>
          <a:prstGeom prst="flowChartMagneticDisk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AutoShape 14"/>
          <p:cNvSpPr/>
          <p:nvPr/>
        </p:nvSpPr>
        <p:spPr>
          <a:xfrm>
            <a:off x="4038480" y="4419720"/>
            <a:ext cx="762120" cy="1752480"/>
          </a:xfrm>
          <a:prstGeom prst="flowChartMagneticDisk">
            <a:avLst/>
          </a:prstGeom>
          <a:solidFill>
            <a:srgbClr val="ffa3d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AutoShape 15"/>
          <p:cNvSpPr/>
          <p:nvPr/>
        </p:nvSpPr>
        <p:spPr>
          <a:xfrm>
            <a:off x="5334120" y="4419720"/>
            <a:ext cx="761760" cy="1752480"/>
          </a:xfrm>
          <a:prstGeom prst="flowChartMagneticDisk">
            <a:avLst/>
          </a:prstGeom>
          <a:solidFill>
            <a:srgbClr val="c0ff1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Rectangle 16"/>
          <p:cNvSpPr/>
          <p:nvPr/>
        </p:nvSpPr>
        <p:spPr>
          <a:xfrm>
            <a:off x="0" y="3809880"/>
            <a:ext cx="22860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AutoShape 17"/>
          <p:cNvSpPr/>
          <p:nvPr/>
        </p:nvSpPr>
        <p:spPr>
          <a:xfrm>
            <a:off x="1523880" y="4419720"/>
            <a:ext cx="762120" cy="1752480"/>
          </a:xfrm>
          <a:prstGeom prst="flowChartMagneticDisk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AutoShape 18"/>
          <p:cNvSpPr/>
          <p:nvPr/>
        </p:nvSpPr>
        <p:spPr>
          <a:xfrm>
            <a:off x="380880" y="4419720"/>
            <a:ext cx="762120" cy="1752480"/>
          </a:xfrm>
          <a:prstGeom prst="flowChartMagneticDisk">
            <a:avLst/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AutoShape 19"/>
          <p:cNvSpPr/>
          <p:nvPr/>
        </p:nvSpPr>
        <p:spPr>
          <a:xfrm>
            <a:off x="533520" y="6248520"/>
            <a:ext cx="457200" cy="457200"/>
          </a:xfrm>
          <a:prstGeom prst="pie">
            <a:avLst/>
          </a:prstGeom>
          <a:solidFill>
            <a:srgbClr val="ffea18"/>
          </a:solidFill>
          <a:ln w="1908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9" name="Picture 20" descr=""/>
          <p:cNvPicPr/>
          <p:nvPr/>
        </p:nvPicPr>
        <p:blipFill>
          <a:blip r:embed="rId3"/>
          <a:srcRect l="10345" t="1197" r="10345" b="3597"/>
          <a:stretch/>
        </p:blipFill>
        <p:spPr>
          <a:xfrm>
            <a:off x="6599160" y="3967200"/>
            <a:ext cx="2403720" cy="2487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tting through cell membran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Passive Transpor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imple diffus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iffusion of nonpolar, hydrophobic molecul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lipids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HIGH </a:t>
            </a:r>
            <a:r>
              <a:rPr b="1" lang="en-US" sz="1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 LOW concentration gradient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Facilitated transport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iffusion of polar, hydrophilic molecul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hrough a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protein chann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HIGH </a:t>
            </a:r>
            <a:r>
              <a:rPr b="1" lang="en-US" sz="1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 LOW concentration gradient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Active transpor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iffusion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against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concentration gradient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LOW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HIG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uses a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tein pum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equires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72" name="AutoShape 4"/>
          <p:cNvSpPr/>
          <p:nvPr/>
        </p:nvSpPr>
        <p:spPr>
          <a:xfrm>
            <a:off x="5638680" y="5334120"/>
            <a:ext cx="1295640" cy="1295280"/>
          </a:xfrm>
          <a:prstGeom prst="irregularSeal1">
            <a:avLst/>
          </a:prstGeom>
          <a:solidFill>
            <a:srgbClr val="ed001d"/>
          </a:solidFill>
          <a:ln w="3816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5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smosis is just diffusion of wat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ter is very important to life,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 we talk about water separatel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ffusion of water from </a:t>
            </a:r>
            <a:br>
              <a:rPr sz="3000"/>
            </a:b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HIGH concentratio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of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water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to </a:t>
            </a:r>
            <a:br>
              <a:rPr sz="3000"/>
            </a:b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LOW concentratio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of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wat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cross a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mi-permeable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7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952880" y="3857760"/>
            <a:ext cx="4038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7T20:50:07Z</dcterms:created>
  <dc:creator>Allison Magee</dc:creator>
  <dc:description/>
  <dc:language>en-US</dc:language>
  <cp:lastModifiedBy>Allison Magee</cp:lastModifiedBy>
  <dcterms:modified xsi:type="dcterms:W3CDTF">2015-04-07T21:35:03Z</dcterms:modified>
  <cp:revision>3</cp:revision>
  <dc:subject/>
  <dc:title>AP Test Cell Review</dc:title>
</cp:coreProperties>
</file>